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775-9126-46DC-A9F2-5DFD0C7F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E4C-1A3D-440A-BC25-74B4A97F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E2B-9401-4B64-BDF4-15330EC8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351-4A56-4CCD-B240-A57CD1A3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0252-81F3-481A-922F-5BEED8E4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6940-C89D-4302-BE54-8F74D234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99AD-D8BF-437D-9884-DB9567E8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D6B6-00E3-46E8-AAD8-519D8A9A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38FF-2B29-4B58-811E-FAC2C9B1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0597-343B-40CA-84D9-71799B40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5DA5-E24E-4DCB-8822-5AA0AEEF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1A0C-D14C-4DB7-8C79-83ACA232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09DB-376D-4AF6-B9BB-F1C1D794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D090-9910-4159-8728-EB229497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36A6-DDE2-4448-B0B3-033BF90C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0A55-EEF8-47B8-ADF4-A4058884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2A51-D8B1-47E1-B1D6-72DA9D8C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1B8-23C1-4631-B766-BA96B5CB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2621-E779-4F0C-BF79-F0C33F31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AFD-7299-49B0-94FB-39A0C21B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6C7A-D399-4CE2-B5F8-4CEF4F51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495-2C5E-49D6-88F7-1BD04205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790-F596-472D-B004-5820C93A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8DF4-2349-4E78-9D65-FFF6C2EC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B518-9381-4F51-8E46-70C457E65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2640" y="1300320"/>
            <a:ext cx="8023320" cy="101520"/>
          </a:xfrm>
          <a:prstGeom prst="rect">
            <a:avLst/>
          </a:prstGeom>
          <a:gradFill rotWithShape="0">
            <a:gsLst>
              <a:gs pos="0">
                <a:srgbClr val="ff832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98600" y="1452600"/>
            <a:ext cx="801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3653-9FC3-4D90-8DC2-F45C095C8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2640" y="3645000"/>
            <a:ext cx="8023320" cy="101520"/>
          </a:xfrm>
          <a:prstGeom prst="rect">
            <a:avLst/>
          </a:prstGeom>
          <a:gradFill rotWithShape="0">
            <a:gsLst>
              <a:gs pos="0">
                <a:srgbClr val="ff832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8600" y="3797280"/>
            <a:ext cx="801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eração de código intermed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vembro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o observamos, o objetivo de se realizar a geração de código intermediário é permitir a realização de otimizaç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l seria um outro uso de linguagens intermediárias atual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7080" y="4149720"/>
            <a:ext cx="17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Jav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iste uma variedade de linguagens intermediárias atual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ndo se está projetando um compilador, certamente a decisão de qual linguagem intermediária utilizar é cru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pendendo da linguagem intermediária, otimizações de código poder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r mais facilmente serem implemen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r mais difíceis de serem implemen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mandar mais tempo de computação se as linguagens intermediárias forem inapropri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utro ponto importante é observarmos quão independente de máquina a linguagem intermediária 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to mais dependente de máquina, será mais difícil de se implementar certas otim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muitos compiladores fazem é a utilização de várias representações intermediá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urante o processo de compilação, inicialmente gera-se uma primeira representação intermediária, na qual são aplicadas otimizaç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seguida, esta representação otimizada é convertida em outra representação intermediária, conveniente para a aplicação de outras otimiz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exemplo de compilador que realiza tal estratégia é o compilador da Hewlett-Packard para PA-RI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linguagens intermediárias podem ser classificadas 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guagens intermediárias de alto n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óximas da linguagem fo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guagens intermediárias de nível mé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guagens intermediárias de baixo n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óximas da linguagem al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compilador pode gerar mais de uma destas representações durante o processo de compil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possível forma de representação intermediária é a árvore sint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árvore sintát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é uma forma condensada de árvore gramatical, útil para a representação das construções de lingua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produção S ::=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deria aparecer numa árvore sintática co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7760" y="1617480"/>
            <a:ext cx="327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743200" y="2075040"/>
            <a:ext cx="83808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913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49560" y="2913120"/>
            <a:ext cx="9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2913120"/>
            <a:ext cx="14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2151000"/>
            <a:ext cx="0" cy="609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52880" y="2151000"/>
            <a:ext cx="53352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uma árvore sintática os operadores e as palavras chaves não figuram como folhas, ao contrário, são associados a um nó i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 Para a express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:=  b * -c + b*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emos a seguinte árvore sint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32767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743200" y="3733920"/>
            <a:ext cx="60948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3733920"/>
            <a:ext cx="60948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52880" y="407988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70280" y="47005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08160" y="5386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236760" y="5081760"/>
            <a:ext cx="60984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8880" y="5081760"/>
            <a:ext cx="53352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8880" y="54626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n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79760" y="614844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584352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59680" y="47815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97560" y="541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726160" y="5110200"/>
            <a:ext cx="60948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5105520"/>
            <a:ext cx="468360" cy="461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88280" y="5491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n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69160" y="6176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21440" y="5872320"/>
            <a:ext cx="0" cy="304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038480" y="4419720"/>
            <a:ext cx="91440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4120" y="4419720"/>
            <a:ext cx="106668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mos agora explorar as questões envolvidas na transformação do código fonte em uma possível representação intermediá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o vimos, nas ações semânticas já é possível fazer a geração direta de código (assembly por exemp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Árvores sintáticas permitem que a geração de código seja desacoplada da análise sint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geração das árvores sintáticas é feita através de ações semân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: para um comando de atribuição poderíamos ter a gramática com as seguintes ações semân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280" y="2437920"/>
            <a:ext cx="8686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S -&gt;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:= E          S.nptr := criar_no(‘assign’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criar_folha(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local), E.npt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 -&gt;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|        E.nptr := criar_nó(‘+’,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nptr,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npt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*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|        E.nptr := criar_nó(‘*’,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nptr,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npt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|              E.nptr := criar_nó(‘menosU’,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npt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(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) |           E.nptr :=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npt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id                 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.nptr := criar_folha(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loc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gra Semân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s Dirigidos Acíc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Grafo Dirigido Acíclico GDA também é uma representação intermediária de um compil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(GDA) para uma expressão identifica as subexpressões comuns existentes na me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uma árvore sintática, um GDA possui um nó para cada subexpressão de uma expres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nó interior representa um operador e os filhos representam seus opera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s Dirigidos Acíc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diferença entre um GDA e uma árvore sintática (AS) é que, um nó de um GDA representando uma subexpressão comum, possui mais de um p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GDA fornece as mesmas informações da AS, porém de maneira mais compa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ogo, no exemplo visto anteriormente terí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s Dirigidos Acíc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 Para a express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:=  b * -c + b*-c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emos o G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37040" y="28051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74920" y="356724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603520" y="3262320"/>
            <a:ext cx="60948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80040" y="3262320"/>
            <a:ext cx="60948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72160" y="354636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7242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54100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191120" y="5105520"/>
            <a:ext cx="60948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952880" y="5105520"/>
            <a:ext cx="53352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52880" y="54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n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84800" y="613404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86400" y="586728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396252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cubicBezTo>
                  <a:pt x="96" y="100"/>
                  <a:pt x="192" y="200"/>
                  <a:pt x="192" y="288"/>
                </a:cubicBezTo>
                <a:cubicBezTo>
                  <a:pt x="192" y="376"/>
                  <a:pt x="32" y="488"/>
                  <a:pt x="0" y="528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59400" y="3962520"/>
            <a:ext cx="317520" cy="838080"/>
          </a:xfrm>
          <a:custGeom>
            <a:avLst/>
            <a:gdLst/>
            <a:ahLst/>
            <a:rect l="l" t="t" r="r" b="b"/>
            <a:pathLst>
              <a:path w="200" h="528">
                <a:moveTo>
                  <a:pt x="200" y="0"/>
                </a:moveTo>
                <a:cubicBezTo>
                  <a:pt x="108" y="76"/>
                  <a:pt x="16" y="152"/>
                  <a:pt x="8" y="240"/>
                </a:cubicBezTo>
                <a:cubicBezTo>
                  <a:pt x="0" y="328"/>
                  <a:pt x="76" y="428"/>
                  <a:pt x="152" y="528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3657600"/>
            <a:ext cx="2743200" cy="1295280"/>
          </a:xfrm>
          <a:prstGeom prst="wedgeRoundRectCallout">
            <a:avLst>
              <a:gd name="adj1" fmla="val -75523"/>
              <a:gd name="adj2" fmla="val 42893"/>
              <a:gd name="adj3" fmla="val 16667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ó que representa uma subexpressão comum possui mais de um p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s Dirigidos Acíc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regras semânticas podem criar os GDA´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mesmas regras vistas anteriormente poderiam ser us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função criar_nó (op, esquerdo, direito) deverá verificar, antes de criar um novo nó, se já não existe um nó com raiz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filhos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direi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esque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s Dirigidos Acíc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nte o GDA para a seguinte express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a + b) * a + a + (a + b) *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ódigo de Três endereç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composto por uma seqüência de instruções envolvendo operações binárias ou unárias e uma atrib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nome ‘três endereços’ está associado à especificação, em uma instrução, de no máximo três operandos: dois para os operadores binários e uma para o resultad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: t1 = -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2  := b * 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 := 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ódigo de Três Endereç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código de três endereços é uma seqüência de enunciados da forma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x := y op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nde,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são nomes, constantes ou objetos de dados temporários criados pelo compil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stá no lugar de qualquer oper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ódigo de Três Endereç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sim, expressões envolvendo diversas operações são decompostas nesse código em uma série de instruções, eventualmente com a utilização de variáveis temporárias introduzidas na traduçã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sa forma, obtém-se um código mais próximo da estrutura da linguage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ssembly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 entanto, a maioria dos compiladores comerciais realizam a geração de uma representação intermediária entre o código fonte e o código de máqu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a representação intermediária é chamada de linguagem intermediá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ódigo de Três Endereç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 código de três endereços não são permitidas expressões aritméticas construídas, já que só há um oper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ogo, uma expressão da forma x + y * z poderia ser traduzida na seqü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:= y *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2 := x + t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temporários são construídos para os nós interiores da árvore sint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ódigo de Três Endereç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enunciados de três endereços são semelhantes ao código de montagem (linguagem assemb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ódigo de Três Endereç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possível especificação de uma linguagem de três endereços envolve quatro tipos básicos de instruç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pressões com atribu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esso indexado e indir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vocação de roti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struções de atribuiçã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ão aquelas nas quais o resultado de uma operação é armazenado na variável especificada à esquerda do operador de atribuição, aqui denotado por :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á três formas para esse tipo de instru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primeira, a variável recebe o resultado de uma operação biná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 := y op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struções de atribui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segunda, o resultado pode ser obtido a partir da aplicação de um operador unár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 := op 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terceira forma, pode ocorrer uma simples cópia de valores de uma variável para out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 := 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Instruções de atribuição - 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exemplo, a instrução em linguagem de alto nív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= b + c * 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ria traduzida nesse formato para as instruçõ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_t1 := c * 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:= b + _t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cesso Indexado e Indir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atribuições indexadas, as duas formas básicas s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 := y[i]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[i] :=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forma x := y[i] atribui à x o valor amazenado i posições de memória a partir do endereço de memória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forma x[i] := y atribui o valor y à posição de memória com deslocamento i partir do endereço de memória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struções de Desv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struções de desv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odem assumir duas formas bás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instrução de desvio incondicional tem o form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oto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nde L é um rótulo simbólico que identifica uma linha do cód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struções de Desv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outra forma de desvio é o desvio condicional, com o forma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f x opr y goto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r é um operador relacional de comparação (&lt;, &lt;=, ...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 é o rótulo da linha que deve ser executada se o resultado da aplicação do operador relacional for verdadeir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o contrário, a linha seguinte é executad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struções de Desv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exemplo, a seguinte iteração em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hile (i++ &lt;= 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[i] = 0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[0] = 0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s de um Compil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1989000"/>
            <a:ext cx="3024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alisador L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6360" y="2674800"/>
            <a:ext cx="3024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dor Sint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6680" y="3471840"/>
            <a:ext cx="3311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dor Semân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16320" y="4251240"/>
            <a:ext cx="4049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ador de Código Intermedi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5000" y="5021280"/>
            <a:ext cx="4896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timizador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57480" y="5749920"/>
            <a:ext cx="48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dor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2793960"/>
            <a:ext cx="1584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36000" y="3009960"/>
            <a:ext cx="1584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tador de e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763640" y="2158920"/>
            <a:ext cx="107964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763640" y="2923920"/>
            <a:ext cx="115272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63640" y="3297240"/>
            <a:ext cx="64764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3513240"/>
            <a:ext cx="432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3657600"/>
            <a:ext cx="43164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40360" y="2158920"/>
            <a:ext cx="129564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2924280"/>
            <a:ext cx="129564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84720" y="3512880"/>
            <a:ext cx="115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443640" y="3512880"/>
            <a:ext cx="792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020000" y="3801600"/>
            <a:ext cx="2160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020000" y="3801960"/>
            <a:ext cx="122400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6400" y="6432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0720" y="14335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 F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86240" y="174312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3157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2764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81560" y="46576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68960" y="54878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56000" y="623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struções de Desv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deria ser traduzida 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_L1:  if i &gt; k goto _L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 := i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[i] :=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oto _L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_L2: x[0] :=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timização de Cód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árias são as otimizações realizadas por um compilad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ocação de registradores: Tenta evitar a gravação/leitura de valores de/para a memória principal fazendo que os mesmos residam em registr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agação de constantes: Propaga sempre que possível constantes em express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vocação de rot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vocação de rotin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ocorre em duas etap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icialmente, os argumentos do procedimento são ‘registrados’ com a instrução par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ós a definição dos argumentos, a instrução call completa a invocação da rot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vocação de rot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instrução return indica o fim de execução de uma roti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cionalmente, esta instrução pode especificar um valor de retorno, que pode ser atribuído na linguagem intermediária a uma variável como resultado de c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vocação de rotina - 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exemplo, considere a chamada de uma função f que recebe três argumentos e retorna um val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(a, b, c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vocação de rotina - 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este exemplo em C, esse valor de retorno não é utilizado. De qualquer modo, a expressão acima seria traduzida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m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m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_t1 := call f,3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vocação de rotina - 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nde o número após a vírgula indica o número de argumentos utilizados pelo procedimento 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 o uso desse argumento adicional é possível expressar sem dificuldades as chamadas aninhadas de procediment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tribuições de ponteiro e endereç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instruções em formato intermediário também utilizam um formato próximo àquele da linguagem C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 := &amp;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 := *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*x := 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mplementação de código de Três Endereç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representação interna das instruções em códigos de três endereços dá-se na forma de armazenamento 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belas com quatro colunas(quadrúpl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belas com três colunas (tripl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Quádrup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 abordagem que utiliz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quádrupl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cada instrução é representada por uma linha na tabela com a especificação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er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meiro arg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ndo argu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do result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e uma senten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1772280"/>
            <a:ext cx="43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icao := inicial + taxa *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64200" y="221292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06920" y="2872080"/>
            <a:ext cx="2808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dor Lé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2920" y="5024520"/>
            <a:ext cx="3311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dor Sint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64000" y="3916800"/>
            <a:ext cx="43196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:= id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+ id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64200" y="334476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64200" y="437364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64200" y="552600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71680" y="4221000"/>
          <a:ext cx="1768320" cy="1551240"/>
        </p:xfrm>
        <a:graphic>
          <a:graphicData uri="http://schemas.openxmlformats.org/drawingml/2006/table">
            <a:tbl>
              <a:tblPr/>
              <a:tblGrid>
                <a:gridCol w="687240"/>
                <a:gridCol w="10810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r>
                        <a:rPr b="0" lang="pt-BR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r>
                        <a:rPr b="0" lang="pt-BR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r>
                        <a:rPr b="0" lang="pt-BR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417960" y="380844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6640" y="4206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560" y="4543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4960" y="4929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2360" y="530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Quádrup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exemplo, a tradução da express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= b + c * d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ultaria no seguinte trecho da tabel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755640" y="3573360"/>
          <a:ext cx="7714800" cy="2336040"/>
        </p:xfrm>
        <a:graphic>
          <a:graphicData uri="http://schemas.openxmlformats.org/drawingml/2006/table">
            <a:tbl>
              <a:tblPr/>
              <a:tblGrid>
                <a:gridCol w="608400"/>
                <a:gridCol w="2149560"/>
                <a:gridCol w="1378800"/>
                <a:gridCol w="1379160"/>
                <a:gridCol w="2198880"/>
              </a:tblGrid>
              <a:tr h="779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_t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_t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Quádrup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algumas instruções, como aquelas envolvendo operadores unários ou desvio incondicional, algumas das colunas estariam vaz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ip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outra forma de representação, por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ripl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evita-se a necessidade de manter nomes de variáveis temporárias ao fazer referência às linhas da própria tabela no lugar dos argu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39640" y="4076640"/>
          <a:ext cx="8147160" cy="1855800"/>
        </p:xfrm>
        <a:graphic>
          <a:graphicData uri="http://schemas.openxmlformats.org/drawingml/2006/table">
            <a:tbl>
              <a:tblPr/>
              <a:tblGrid>
                <a:gridCol w="642960"/>
                <a:gridCol w="2270160"/>
                <a:gridCol w="1455840"/>
                <a:gridCol w="1455840"/>
                <a:gridCol w="2322360"/>
              </a:tblGrid>
              <a:tr h="64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_t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_t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 flipH="1">
            <a:off x="8317080" y="3429000"/>
            <a:ext cx="576000" cy="151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ip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esse caso, apenas três colunas são necessárias, uma vez que o resultado está sempre implicitamente associado à linha da tab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ip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mesmo exemplo apresentado para a representação interna por quádruplas, a representação por triplas se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84360" y="3429000"/>
          <a:ext cx="7427880" cy="1979640"/>
        </p:xfrm>
        <a:graphic>
          <a:graphicData uri="http://schemas.openxmlformats.org/drawingml/2006/table">
            <a:tbl>
              <a:tblPr/>
              <a:tblGrid>
                <a:gridCol w="720720"/>
                <a:gridCol w="2454480"/>
                <a:gridCol w="2125440"/>
                <a:gridCol w="2127240"/>
              </a:tblGrid>
              <a:tr h="718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e uma senten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2360" y="1967040"/>
            <a:ext cx="3311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dor Sint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789200" y="1666800"/>
            <a:ext cx="144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3127680"/>
            <a:ext cx="3311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dor Semân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4346640"/>
            <a:ext cx="3352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dor de Código Intermedi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563868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4952880"/>
            <a:ext cx="35812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1  := inttoreal( 6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2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*  tem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3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+  tem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=  te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62480" y="24606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8840" y="36781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320040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0574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apas realizadas através de ações semânticas inseridas dentro do analisador sint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419720" y="3428640"/>
            <a:ext cx="838080" cy="609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e uma senten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5105520"/>
            <a:ext cx="1800" cy="55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6023160"/>
            <a:ext cx="35780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timizador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5589720"/>
            <a:ext cx="5461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3429000"/>
            <a:ext cx="35812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1  := inttoreal( 6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2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*  tem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3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+  tem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=  te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908000"/>
            <a:ext cx="3353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dor de Código Intermedi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2895480"/>
            <a:ext cx="1440" cy="55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3352680"/>
            <a:ext cx="381240" cy="1295640"/>
          </a:xfrm>
          <a:custGeom>
            <a:avLst/>
            <a:gdLst>
              <a:gd name="textAreaLeft" fmla="*/ 0 w 381240"/>
              <a:gd name="textAreaRight" fmla="*/ 137520 w 3812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35812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ódigo de três endere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6640" y="1844640"/>
            <a:ext cx="4103640" cy="34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e uma Senten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5805360"/>
            <a:ext cx="3240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1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* 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+  tem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68280" y="4005360"/>
            <a:ext cx="35355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1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*  6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3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+  tem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=  te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5680" y="1971720"/>
            <a:ext cx="39672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1  := 6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2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*  tem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3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+  tem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=  te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81360" y="3500280"/>
            <a:ext cx="0" cy="41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13360" y="306864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timizador de Códi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16120" y="532620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40360" y="616572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32360" y="5953320"/>
            <a:ext cx="280836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dor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85080" y="61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e uma senten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51280" y="4771080"/>
            <a:ext cx="261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VF   _taxa, 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LF   #60.0, 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VF   _inicial,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DF   R2,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VF   R1, _posic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5440" y="2324160"/>
            <a:ext cx="3240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1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* 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+  tem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33800" y="42670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65440" y="3694320"/>
            <a:ext cx="280836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dor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05440" y="18194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3800" y="31161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00:32:39Z</dcterms:created>
  <dc:creator>mArCeLo</dc:creator>
  <dc:description/>
  <dc:language>en-US</dc:language>
  <cp:lastModifiedBy>Marcelo Silva Cintra</cp:lastModifiedBy>
  <dcterms:modified xsi:type="dcterms:W3CDTF">2006-11-08T02:23:27Z</dcterms:modified>
  <cp:revision>653</cp:revision>
  <dc:subject/>
  <dc:title>Aula 1802 – Fases de um compilador</dc:title>
</cp:coreProperties>
</file>